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190-7680-488C-A309-6C41AC27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B94-D420-45CE-9BD5-2AC9FE0D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D7B-D6D0-4D17-988B-9AE55834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B89-D405-4E0D-9103-86250F77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7F55-FCB0-42CE-88E0-F2CFB8C9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90A-8FDA-49EB-9BE0-42901CF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9EC-2A34-462D-8BEE-F3098F4C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C07-0A5C-4726-B7C9-CB05E428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440-8514-4E59-9394-B04BCA66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6FA-C1A2-4303-A8A6-A64C0C79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24E-3253-4FFF-B93D-5975238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B7C-41F2-4DB1-AFC8-7BEC42D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03B-5EC3-4DAB-AA05-62917AD44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zipdn10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zipdn102.wav"/><Relationship Id="rId24" Type="http://schemas.openxmlformats.org/officeDocument/2006/relationships/audio" Target="../media/zipdn102.wav"/><Relationship Id="rId25" Type="http://schemas.openxmlformats.org/officeDocument/2006/relationships/audio" Target="../media/jetflyby2.wav"/><Relationship Id="rId26" Type="http://schemas.openxmlformats.org/officeDocument/2006/relationships/audio" Target="../media/zipdn102.wav"/><Relationship Id="rId27" Type="http://schemas.openxmlformats.org/officeDocument/2006/relationships/audio" Target="../media/zipdn102.wav"/><Relationship Id="rId28" Type="http://schemas.openxmlformats.org/officeDocument/2006/relationships/audio" Target="../media/jetflyby2.wav"/><Relationship Id="rId29" Type="http://schemas.openxmlformats.org/officeDocument/2006/relationships/audio" Target="../media/zapbig0g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zapbig0g.wav"/><Relationship Id="rId34" Type="http://schemas.openxmlformats.org/officeDocument/2006/relationships/audio" Target="../media/zapbig0g.wav"/><Relationship Id="rId35" Type="http://schemas.openxmlformats.org/officeDocument/2006/relationships/audio" Target="../media/zapbig0g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apbig0g.wav"/><Relationship Id="rId39" Type="http://schemas.openxmlformats.org/officeDocument/2006/relationships/audio" Target="../media/zapbig0g.wav"/><Relationship Id="rId40" Type="http://schemas.openxmlformats.org/officeDocument/2006/relationships/audio" Target="../media/zapbig0g.wav"/><Relationship Id="rId41" Type="http://schemas.openxmlformats.org/officeDocument/2006/relationships/audio" Target="../media/zapbig0g.wav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14200" y="1430280"/>
                <a:ext cx="304812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00320" y="5950080"/>
                <a:ext cx="4460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828800" y="5613480"/>
                <a:ext cx="49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14560" y="3079800"/>
                <a:ext cx="166212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3040" y="4813200"/>
                <a:ext cx="35197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257560" y="5275440"/>
            <a:ext cx="66816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6160" y="1430280"/>
                <a:ext cx="318600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776760" y="5072040"/>
                <a:ext cx="14349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494240" y="6021360"/>
                <a:ext cx="506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86440" y="5764320"/>
                <a:ext cx="6080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38320" y="3079800"/>
                <a:ext cx="16142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93680" y="4976640"/>
                <a:ext cx="62712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11440" y="4960800"/>
                <a:ext cx="115884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42880" y="4032360"/>
                <a:ext cx="7509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22360" y="3094200"/>
                <a:ext cx="8078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152360" y="5187960"/>
                <a:ext cx="482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98840" y="4013280"/>
                <a:ext cx="622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76520" y="3198960"/>
                <a:ext cx="6494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343240" y="5197320"/>
                <a:ext cx="500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49120" y="4813200"/>
                <a:ext cx="351972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328840" y="51451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5360" y="1430280"/>
                <a:ext cx="346392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092480" y="195408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Pull out what is comm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9520" y="2933640"/>
                <a:ext cx="351936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176720" y="319104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Do the math on the inside of the parenthe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776760" y="5072040"/>
                <a:ext cx="14349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343400" y="6021360"/>
                <a:ext cx="809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86440" y="5764320"/>
                <a:ext cx="6080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263680" y="33955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96840" y="3079800"/>
                <a:ext cx="1898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09800" y="5025960"/>
                <a:ext cx="8506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85880" y="5011560"/>
                <a:ext cx="13813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54040" y="4046400"/>
                <a:ext cx="609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9640" y="3108240"/>
                <a:ext cx="6573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24000" y="5187960"/>
                <a:ext cx="4366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657520" y="4041720"/>
                <a:ext cx="765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31960" y="3111480"/>
                <a:ext cx="798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90760" y="5194440"/>
                <a:ext cx="496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9600" y="3981600"/>
                <a:ext cx="287640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971720" y="4324320"/>
            <a:ext cx="66816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0" y="1176480"/>
                <a:ext cx="48499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27120" y="1407960"/>
                <a:ext cx="50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100320" y="1176480"/>
                <a:ext cx="8874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90720" y="2625840"/>
                <a:ext cx="20174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359240" y="1208160"/>
                <a:ext cx="8445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78000" y="2604960"/>
                <a:ext cx="24148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73160" y="4048200"/>
                <a:ext cx="13716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166920" y="3989520"/>
                <a:ext cx="283860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809960" y="433224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90880" y="4056120"/>
                <a:ext cx="141444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04640" y="5462640"/>
                <a:ext cx="2675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114640" y="5754600"/>
            <a:ext cx="384120" cy="7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052640" y="5587920"/>
                <a:ext cx="6109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49520" y="5568840"/>
                <a:ext cx="7984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52400" y="4937040"/>
                <a:ext cx="534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6320" y="4143240"/>
                <a:ext cx="577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20680" y="5737320"/>
                <a:ext cx="532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62240" y="4908600"/>
                <a:ext cx="4716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212920" y="4151160"/>
                <a:ext cx="493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119320" y="5700600"/>
                <a:ext cx="274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013200" y="5483160"/>
                <a:ext cx="26384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705200" y="5775480"/>
            <a:ext cx="38448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49760" y="5564160"/>
                <a:ext cx="1222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45160" y="5383080"/>
                <a:ext cx="12272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294600" y="6186600"/>
                <a:ext cx="4172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19840" y="5940360"/>
                <a:ext cx="460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275600" y="538308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904160" y="6186600"/>
                <a:ext cx="4176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3680" y="5837400"/>
                <a:ext cx="419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70400" y="1679400"/>
                <a:ext cx="88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243480" y="2027160"/>
                <a:ext cx="417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624720" y="1781280"/>
                <a:ext cx="460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080120" y="122400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09040" y="2027160"/>
                <a:ext cx="417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188200" y="1677960"/>
                <a:ext cx="4194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157800" y="1231920"/>
                <a:ext cx="54936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3280" y="3887640"/>
                <a:ext cx="303048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838160" y="423072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1103400"/>
                <a:ext cx="51246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69880" y="1355760"/>
                <a:ext cx="506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25960" y="1139760"/>
                <a:ext cx="992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06400" y="2565360"/>
                <a:ext cx="24145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618080" y="1130400"/>
                <a:ext cx="8398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33800" y="2565360"/>
                <a:ext cx="2492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60480" y="3962520"/>
                <a:ext cx="141444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147840" y="3882960"/>
                <a:ext cx="287820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4809960" y="4226040"/>
            <a:ext cx="66852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90880" y="3949560"/>
                <a:ext cx="141444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200" y="5450040"/>
                <a:ext cx="28195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849320" y="5742000"/>
            <a:ext cx="38412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79480" y="5592600"/>
                <a:ext cx="61128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444680" y="5576760"/>
                <a:ext cx="83484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/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28560" y="4848120"/>
                <a:ext cx="5716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41440" y="4043520"/>
                <a:ext cx="61596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63720" y="5700600"/>
                <a:ext cx="36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82680" y="4802040"/>
                <a:ext cx="4716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2560" y="4071960"/>
                <a:ext cx="493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19160" y="5686560"/>
                <a:ext cx="274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22400" y="5470560"/>
                <a:ext cx="2673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f>
                          <m:num/>
                          <m:den/>
                        </m:f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532400" y="5762520"/>
            <a:ext cx="384120" cy="7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355920" y="5586480"/>
                <a:ext cx="6825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27600" y="5576760"/>
                <a:ext cx="105228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502080" y="4770360"/>
                <a:ext cx="536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5600" y="403056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19640" y="5694480"/>
                <a:ext cx="533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14880" y="4791240"/>
                <a:ext cx="579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078520" y="4019400"/>
                <a:ext cx="60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459320" y="5662440"/>
                <a:ext cx="37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665680" y="5383080"/>
                <a:ext cx="11858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273720" y="6207120"/>
                <a:ext cx="4590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5600" y="5742000"/>
                <a:ext cx="628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254720" y="5383080"/>
                <a:ext cx="12272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758000" y="6207120"/>
                <a:ext cx="7095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342280" y="5837400"/>
                <a:ext cx="503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643720" y="1585800"/>
                <a:ext cx="804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554880" y="1954080"/>
                <a:ext cx="460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899400" y="1488960"/>
                <a:ext cx="6285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391520" y="1130400"/>
                <a:ext cx="12268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894800" y="1954080"/>
                <a:ext cx="709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8466120" y="1690560"/>
                <a:ext cx="503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497640" y="1152360"/>
                <a:ext cx="5065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9, 9 – 5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6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8T18:49:17Z</dcterms:modified>
  <cp:revision>122</cp:revision>
  <dc:subject/>
  <dc:title>Slide 1</dc:title>
</cp:coreProperties>
</file>